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4C07-FA22-49EB-A4F5-969F5F793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5796-D698-43B7-B388-6C4B1633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D1AA-31E6-494D-9610-EB197910F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BBA7-6F01-46C3-8A8B-E8BA23201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E837-0622-4D9D-8CF5-6B4BC7F13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3F85-4C59-4FCF-A482-EA0BD4F3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5CF2-0AAA-4FBC-A06F-5D2BE60A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DE8B-B9AF-4B44-93B8-BE6358D3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40E6-3C3D-4660-B620-57C65BA2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2BEE-BBBC-4EF4-A319-ECBB2979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BCAC-700C-44EE-BA4E-28A6BFC6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478A-70F6-4216-909D-D6186501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6D87-BA9D-4FEB-BEF6-E4F6F435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6442-6926-4D3B-88EB-BB9BF85F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70D5-F313-4093-8B8D-130ECF17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7B53-B163-4073-9079-50636A3C8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A630-F684-4A93-A153-B7C381D05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0F59-4D74-45BC-9E38-7239638B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5BD4-52E8-401F-8576-DC29FDB0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8C4D-FBA0-4172-AB51-CD81DFF1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EA0C-E9B9-43F5-940D-EC7003A7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5DEF-353A-41D0-B48F-59083F80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4BD5-4B58-4E70-8C1D-1FD3F109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1319-9B18-4154-B8D1-C0AA54C4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4929-6E3C-493F-BBA6-1C39D43ED0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6044-9BB1-4B39-8510-A1029D336A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F_4FxpJqpkApbajzbkF/SIG=128u7ui92/EXP=1226533240/**http%3A/www.africaconnect.co.za/SIERRE-LEONE_flag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erriam-webster.com/maps/images/maps/sierraleone_map.gif&amp;imgrefurl=http://www.merriam-webster.com/maps/sierra_leone.html&amp;h=370&amp;w=370&amp;sz=24&amp;hl=en&amp;start=1&amp;usg=__YY5QZ3F1I9cLLlj0bED-DkZy-5A=&amp;tbnid=8XcHcO6yd5huLM:&amp;tbnh=122&amp;tbnw=122&amp;prev=/images%3Fq%3Dsierre%2Bleone%26gbv%3D2%26hl%3Den%26sa%3D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ate.gov/cms_images/2007_06_07_sierra_leone_600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cocorioko.net/ernestbaikoromaverybestpicture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Slaves_sierra_leone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p0.blogger.com/_oTz964W60NY/Rs2iWx5GTaI/AAAAAAAAAQY/CUZ52fMkMIQ/s400/diamond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/imgres?imgurl=http://www.radiomundoreal.fm/rmr/files/images/2411-F-US%2520Rice.jpg&amp;imgrefurl=http://www.radiomundoreal.fm/rmr/%3Fq%3Den/node/20338&amp;h=127&amp;w=170&amp;sz=6&amp;hl=en&amp;start=34&amp;usg=__y8qVOIwam_jQvFdsgFRKUQiscaM=&amp;tbnid=XF3DdBDG0RRf-M:&amp;tbnh=74&amp;tbnw=99&amp;prev=/images%3Fq%3Dsierre%2Bleone%2527s%2Bimports%26start%3D18%26gbv%3D2%26ndsp%3D18%26hl%3Den%26sa%3DN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Image Previe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640" y="-89208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Jhonatan Zava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. Hu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195640" y="1484280"/>
            <a:ext cx="4824360" cy="22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cc00"/>
                  </a:solidFill>
                  <a:miter/>
                </a:ln>
                <a:solidFill>
                  <a:srgbClr val="00cc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Sierra Leone</a:t>
            </a:r>
            <a:endParaRPr b="0" lang="en-US" sz="2400" spc="1" strike="noStrike">
              <a:ln w="12600">
                <a:solidFill>
                  <a:srgbClr val="00cc00"/>
                </a:solidFill>
                <a:miter/>
              </a:ln>
              <a:solidFill>
                <a:srgbClr val="00cc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oc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erra Leone is a country in the west of Af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It is bordered by Guinea in the northeast, Liberia in the southeast, and the Atlantic Ocean in the southwest.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2133720"/>
            <a:ext cx="2735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overnmen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overnment is democracy based on a constitu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have 3 of the same branches as them, executive, judicial, and legislativ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esident now is </a:t>
            </a: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Ernest Bai Koro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549360"/>
            <a:ext cx="2953080" cy="2663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84720" y="3429000"/>
            <a:ext cx="22766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istor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people to establish Sierra Leone were the Britis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untry was created for freed sla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In 1562 the English joined the trade in slaves when Sir John Hawkins bought 300 sla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11680" y="2421000"/>
            <a:ext cx="277668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xports and Inpor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erra Leone is a good export of diamo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of the main imports that it receives is ris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2349360"/>
            <a:ext cx="1171800" cy="1181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27640" y="3789360"/>
            <a:ext cx="2232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conomy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4.2 million people live in Sierra Leon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f the people work in agriculture even though there isn’t much fertile so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148360" y="2266920"/>
            <a:ext cx="35272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utu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future Sierra Leone may be successful because they have a government like ours and we turned out to be successfu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724360" y="2276640"/>
            <a:ext cx="266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7:13:29Z</dcterms:created>
  <dc:creator>Hever</dc:creator>
  <dc:description/>
  <dc:language>en-US</dc:language>
  <cp:lastModifiedBy>Hever</cp:lastModifiedBy>
  <dcterms:modified xsi:type="dcterms:W3CDTF">2008-11-11T18:49:00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